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C3A6-3968-4228-A4EB-5E64DB8F9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2A26-1635-41CB-BC03-4CD898696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FE4F-E0F4-47CA-8D8B-4F09A9F80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8115-0702-46EC-B650-62F26FEE1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D137-8579-4B59-A8EA-D0A401B146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8530-A7F9-434D-AD4E-3743E52A4D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9CA9-C200-49FF-9773-F404ECF219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4D21-5A97-4ED3-9E35-68B92B3689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B780-6B46-46A9-BD35-FD581B40DC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72B1D-DFB4-4445-867D-5A253F76B6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A1A6-FB2B-4AF2-98BD-C1795ED3F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2CCD-59B5-4313-BA76-BDE8B7E2C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F33F-DD8B-44CE-9262-C0DCA693DA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00CF-1AD4-43A1-9D50-C05D42DC15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B058-CF7E-4872-99A8-4B8C2A0944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F2EE-EA99-410E-86D7-6D00F0E9AD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3404-F0BC-4DA8-8533-EC7D06C37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5988-3103-48AD-8381-CA5F2074C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6853-5A68-404E-9C49-2D775A4E3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AAF5-029B-4BCB-8CD4-DD8B48819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8132-B32C-490A-A900-F1B514E0D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F73E-EEBF-4DBC-84D4-B9070DC7E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1C44-06AE-4622-AB59-E6DD99748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5215-7417-452C-BBF4-30B5A613A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7C8C-2ED7-4CD3-8A01-72DFAE6C19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DBA-5487-4AF3-922F-37A39138CB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2DC-92D5-41B0-BE2C-19E30B5F52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</a:rPr>
              <a:t>Responding to Students Over Time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274E-FEF0-42CC-879D-64908B4BD7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835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B833-A7DF-4588-B387-3AE28BF087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ye</cp:lastModifiedBy>
  <dcterms:modified xsi:type="dcterms:W3CDTF">2011-07-26T20:29:18Z</dcterms:modified>
  <cp:revision>36</cp:revision>
  <dc:subject/>
  <dc:title>&lt;Title&gt;</dc:title>
</cp:coreProperties>
</file>